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1C2-04E5-4698-AB85-82CF0B6D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E4C-CAEB-4AC0-917F-9596CD90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B6A-13BE-4A91-9820-3FC4887B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469-E238-4BAB-8318-7D7B3F2F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BB5-EA08-42CC-A9A2-BC18195B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D14-73B0-41B6-AB6D-CF7FB765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096-C26D-4BD3-B840-BE550E73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74B-4CBA-471E-89BD-D50ACAD1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896-A809-47FB-808D-B16A4038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602-8C18-4E43-8275-13D54056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3C3-F030-4A08-95D1-3C655F76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B3E-5BE0-4776-A25C-4665D3C4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31E9-63EE-45BA-B164-0D607B6EF9C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09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5.20091112.p4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09-12-29T08:31:51Z</dcterms:modified>
  <cp:revision>85</cp:revision>
  <dc:subject/>
  <dc:title>投影片 1</dc:title>
</cp:coreProperties>
</file>